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877D-E00D-4DE8-AD82-8558AB92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8094-FEFC-4238-9824-91AF87B1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DDCC-3426-43B8-B88A-C35F8AFF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DC786-FB5A-4133-8C62-364947A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B034-DA9F-424C-980D-BAABC21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8786-E132-407C-B265-F9C2E56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37B8-891C-4F2E-AE16-E90110B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A1DA-6023-4F12-A77E-95A8CCBD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9C640-A97C-42C7-814C-99ABFE68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2E53-63DE-4A61-9AE7-C833D701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38A80-9CF6-445F-8681-3C5726C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BDDB-2CD5-4DBA-88AE-F7203D02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CCF06-35E0-43E1-9F4F-12895DCB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2347-6A4B-4D61-A8CD-658ED47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C5BC-5FAB-4DED-956E-75BE6353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3142C-2052-453E-9159-6B1715A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0764-52DE-4D9C-A698-0D53280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0DF45-C7C9-4DB1-B742-7AF8C42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91D9B-A009-4781-9DB4-A850F5E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08E94-BF0C-4C70-AC7F-86FB7ABD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07C5-760B-4841-9C98-4A1B44D1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108F5-671B-4BE3-AF33-B04ADBC3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4E621-5129-4D53-8D0C-39F64555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77697-26B3-4F87-86D6-29396388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1D9CF-FB86-42B3-9C2B-A53B10D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C00E4-DFD5-4788-B429-DC5099F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62EFA-F4AE-4791-B9F5-6A2135F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B4872-5F7C-4490-B497-100DB8F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F1020-1E7E-4064-A77E-B4C01C8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C3A1-BA52-4047-B1F5-EB2F772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5F1A4-7F66-4FF9-806A-90B62038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51AB1-FCE2-48D2-845C-8270E98B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EE9CF-DAEC-4525-98EB-EB6FF248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C5854-29B8-4EC9-9AC8-F078A9B8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8C9B-CF93-4459-8618-2541078D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E09E6-A0DC-4134-AC8D-F02E05F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86747-45DF-43EC-9EB0-83679594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B9D54-D8A8-4FE1-AAC6-73744A4B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7AE2B-5178-420A-9C8B-DE12078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5AA9B-0230-4D28-B5FF-8922502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ADF6-B066-4257-BBF7-B8F71FE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84DBD-0CBE-4FB0-82B6-42DCFF1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EB19-A9FE-40D1-B057-90E91CA8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28147-EB07-4D90-A5C6-D64F5DA6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A4D5E-9F15-4846-B4BD-C7B5D90F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2B502-8BD3-422E-A195-56B98F1D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43A97-6712-4093-A854-5BD3E35D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0E38D-DA71-444E-8F21-14212B27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EEE8F-E2E6-468B-950F-1CD719C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E2482-92DF-4F6E-8E96-ED06FDAC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DD336-9534-4DED-89FC-DEA6FB78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703AE-E828-4B52-956F-64618F28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AE32-4841-425E-A52C-8690D679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76483-B192-4816-B202-52A53C8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E8EB8-2E7C-4417-A531-5978CF6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022E0-9B28-42DB-899E-10BFDF22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DA66B-D356-4B96-9546-8A9B8F3E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AB61A-2C3C-4A98-A9BD-0930C935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D170E-3AE9-4D63-8FE4-F0280BBC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50931-19F1-46F4-93B4-1BC92FD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E48C3-0EA1-47C2-B617-2E1C1683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3C3C1-859C-475F-9D66-C570BDFC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CCF98-15E7-461A-85E9-C5D27E5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64602-9094-4EF3-B93D-AAA010E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0C512-C78C-431E-BCCC-0636C35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75F70-10EB-4243-8EB5-B189629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F5706-E367-4D38-AB1B-C564736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9AEA-1946-4FF0-BDCF-AC7FCC5C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3EB36-04C5-4BD2-89F6-5DEB5AF4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AF6D3-2BF9-47EC-844C-5ACBA1FA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D23BD-57EB-46BC-9A21-90D0D7F5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AABB3-CC7E-44FA-86DC-36AABE2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892B7-6909-41FA-8550-90A9066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E1FB9-80B8-4482-9CDE-1E56AB45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07544-F62F-4E50-B80D-412E19F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97AFB-B4DF-43C1-86C2-1465BEE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D5D2F-9529-4CEC-801D-63A7073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D0CF2-CF66-4EAB-ABA7-1A49686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70D61-FE01-4CFE-9885-2E857A6D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F7556-104D-46C0-A438-696F384D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FE028-ABE4-40C5-9C01-D8BCADC7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66011-A9F4-4AD6-834B-DAB424B1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6FD0A-99D9-4BE2-B189-FDED3BD8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8365D-682C-41BE-90F6-8C03C10C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F509F-D7D0-495A-AE29-4DF31830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D2D66-B49C-4E3D-ACD9-598AC813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E063E-8EBC-436E-8251-F9BA20C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99B34-D5EB-4E8F-83D8-DD01C37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BC7C8-49C5-4017-900B-02958B7A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02A17-74B0-4C17-A26C-B3754E1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3BF3A-2A05-45E5-A3ED-326EAD3E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F139E-FFFD-42B6-9DCE-2C1ECCC1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2FE0E-725F-4016-9CA8-D0A86EB2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751-737F-4C82-8C6C-17822834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057-9A71-4AAE-A699-9DBA6E9E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5E0-B2AF-40F1-8FDA-C383F9C7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68A-2EA4-484A-830B-95DE452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D26-2B33-4856-A238-CEC9F266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BAB-E610-47D8-84B7-7040AA3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608-6DF6-4DE5-9738-96841C6B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62C-480C-429A-B2C2-A1750125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5A8-A2EC-44DE-B160-78DB836D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072-F875-4F1F-A0E7-CF49B00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AF0-871A-47B8-B03C-4B9D934F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A65-E34A-4B2D-9A09-F03457AF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FE6-8D59-4AAC-A58C-A44D3547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FE91-F2CE-426F-AE02-1D1911AC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41D2-F03E-4A2C-BC93-54BAA157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18F4-9A57-41CB-B4D3-394ECAA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107E-D52F-41E6-8C3D-8D1110FA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E36E-82DB-4D70-866E-BA896AF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AFC3-503F-46EE-BA5C-E7E69AD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63F5-E6CF-4B6A-850F-B2F9B39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2ED9-4833-46A4-A5D1-3A08538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A28D-920D-45D2-9358-9C880D3C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D001-7B1F-4AD2-86A7-217740D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3C3D-0581-44FA-8AFF-F40E280E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BB36-9315-47B9-AE83-61F702ED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BBBF-254C-47BC-BA5F-E5F206DC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0832-680F-43A3-9F70-0EDA3364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718C-1F59-4882-B918-55D525FF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00579-D027-4578-A219-CB4659D7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C482-8A29-4202-A0C9-F943885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2EAE-E527-424A-8408-AEB6D4F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BE0A-6A42-4F72-B59F-F42C1EF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5966-22D2-408B-BDEF-AA3FBDA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9BEA-37F3-40FB-ACB4-684C909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1F57-FC78-4B01-8B03-DBD95CC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57E1-749B-45CB-9EE5-29EF7274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06F9-5DDD-471D-BAF1-074C4936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8B57-4D81-4A42-97AB-68DBDA3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046E-F6FC-49DB-B54D-020C8DF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E4C9-6DC5-47BE-8DD4-E760B8E4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4C08-3128-40A7-89DF-F93F081C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27DE-D261-4685-A4FE-A8D344C3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69EA-36A3-46F9-AA87-B776DA2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5116-6DF3-464E-819A-71A679C8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4A762-8BCE-4FF7-8B10-5C8920C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1CC7-E20F-431F-A655-DEADDF36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DCB3-9FB4-4B9A-BA28-722A3694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E943-6548-463A-92BD-6DFDACB9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C9D3-636D-438B-8A52-B4B283B5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9FF4-78A8-4C1A-95AD-1B289D8F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6598-D2B8-4862-A570-EF441A2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7B89-4AD5-4A9C-A946-CE8695C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7552-7230-42E3-8287-77146F6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9BECA-B39E-48CE-A990-D08B7F25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2146-4EC3-439A-A6F9-8535468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0EF6-73C0-4331-B286-24AED3F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1F3E-1576-413E-823A-3AE91D7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0A83-2B41-4A2D-9C33-B987A2F6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93988-FF3B-4045-99B8-6EC51D97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2819-8D5B-488C-895B-E6A45ABD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E06A-5EAC-4F44-96A9-70595A75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20F7-9D9F-4A2F-9434-107169E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9FA02-D957-47DD-827F-8B9A65C1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7F9C-FEA7-4068-8975-BFC20D5F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0315-554D-4200-8493-389E6D05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A8845-873D-4A08-9488-5C6A6C8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8269-9BF5-45E5-9446-0084930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77C7-8334-49DA-9EA7-51181E5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B128-9C96-4A90-BC66-6CA366A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32A46-F3E5-454F-9D42-E47C4FE5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FC080-EAC9-41B5-96A0-D1A93A79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8F51-F73C-44B1-AC63-52D2B404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4F574-2803-48F7-A710-13F8AF94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E74D-3770-460B-A2CE-FE6C2BF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4F0CE-F732-4258-80CF-904FE8CA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D88-8EAA-4D65-A426-806E060D76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9CD-CBE1-4961-8156-0DEA890DF30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2C56-13AD-41C3-98B4-DE085B7B5A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3164-D5DF-4C18-BD8D-246ECF9D5F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C9BA-FA44-4D3F-A91C-EAF3B56C73E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1A07-14C5-42C4-8F99-75C9E8C26C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F16-FFC8-43A9-B121-99F19BDE81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2DF40-5598-40D4-BDB7-3D1E5674B1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BFD-A78D-41BE-9E81-A7D781AFEC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7FA0-8C74-4267-A3E7-7045A09195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4C3A-8363-4F6B-BFA8-88C3DE9E9C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9861-BA56-40D2-8C7E-954A18E118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5384-87A5-4E36-BB42-6D6F530DCBE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3787-F1FF-4130-A27A-3F7382BAE1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表面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1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12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187280" y="1844640"/>
            <a:ext cx="7120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的表面积计算的实际应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半圆柱或组合圆柱的表面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795240" y="1468440"/>
            <a:ext cx="796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铁皮汽油桶的底面半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4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做一个这样的汽油桶需要多少平方米的铁皮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个圆柱形蓄水池，底面周长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.84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5 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蓄水池的四周及底部抹上水泥。如果每平方米用水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k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抹好这个蓄水池一共需要多少千克的水泥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39640" y="932040"/>
            <a:ext cx="2810160" cy="668160"/>
            <a:chOff x="539640" y="932040"/>
            <a:chExt cx="2810160" cy="668160"/>
          </a:xfrm>
        </p:grpSpPr>
        <p:sp>
          <p:nvSpPr>
            <p:cNvPr id="670" name="圆角矩形 13"/>
            <p:cNvSpPr/>
            <p:nvPr/>
          </p:nvSpPr>
          <p:spPr>
            <a:xfrm>
              <a:off x="1423800" y="1044720"/>
              <a:ext cx="19260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23800" y="1031760"/>
              <a:ext cx="192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39640" y="932040"/>
              <a:ext cx="108756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TextBox 10"/>
          <p:cNvSpPr/>
          <p:nvPr/>
        </p:nvSpPr>
        <p:spPr>
          <a:xfrm>
            <a:off x="1390680" y="2852640"/>
            <a:ext cx="64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3.14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4×2×3.14×1.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7728(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做一个这样的汽油桶需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772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的铁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组合 4"/>
          <p:cNvGrpSpPr/>
          <p:nvPr/>
        </p:nvGrpSpPr>
        <p:grpSpPr>
          <a:xfrm>
            <a:off x="1403280" y="5149800"/>
            <a:ext cx="7201080" cy="1028880"/>
            <a:chOff x="1403280" y="5149800"/>
            <a:chExt cx="7201080" cy="1028880"/>
          </a:xfrm>
        </p:grpSpPr>
        <p:sp>
          <p:nvSpPr>
            <p:cNvPr id="675" name="TextBox 9"/>
            <p:cNvSpPr/>
            <p:nvPr/>
          </p:nvSpPr>
          <p:spPr>
            <a:xfrm>
              <a:off x="1403280" y="5170320"/>
              <a:ext cx="720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[18.8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×2.5 </a:t>
              </a:r>
              <a:r>
                <a:rPr b="1" lang="zh-CN" sz="20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＋            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]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2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=1507.2(kg)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抹好这个蓄水池一共需要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507.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千克的水泥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6" name="对象 2" descr=""/>
            <p:cNvPicPr/>
            <p:nvPr/>
          </p:nvPicPr>
          <p:blipFill>
            <a:blip r:embed="rId2"/>
            <a:stretch/>
          </p:blipFill>
          <p:spPr>
            <a:xfrm>
              <a:off x="3191760" y="5149800"/>
              <a:ext cx="130788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539640" y="1170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王老师要用纸把一个圆柱形铁皮盒的表面全部贴起来，她找来一张长方形纸，照下图的样子裁剪，正好达到目的。想一想铁皮盒的样子，你能计算出铁皮盒的表面积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7"/>
          <p:cNvSpPr/>
          <p:nvPr/>
        </p:nvSpPr>
        <p:spPr>
          <a:xfrm>
            <a:off x="1628640" y="4365720"/>
            <a:ext cx="62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3.14×5×(5×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5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铁皮盒的表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5527800" y="2781360"/>
            <a:ext cx="3076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8"/>
          <p:cNvSpPr/>
          <p:nvPr/>
        </p:nvSpPr>
        <p:spPr>
          <a:xfrm>
            <a:off x="1150920" y="1197000"/>
            <a:ext cx="700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有一个半圆柱如下图所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已知它的底面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它的表面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Picture 6" descr=""/>
          <p:cNvPicPr/>
          <p:nvPr/>
        </p:nvPicPr>
        <p:blipFill>
          <a:blip r:embed="rId1"/>
          <a:stretch/>
        </p:blipFill>
        <p:spPr>
          <a:xfrm>
            <a:off x="5737320" y="2347920"/>
            <a:ext cx="2290680" cy="1717560"/>
          </a:xfrm>
          <a:prstGeom prst="rect">
            <a:avLst/>
          </a:prstGeom>
          <a:ln w="0">
            <a:noFill/>
          </a:ln>
        </p:spPr>
      </p:pic>
      <p:grpSp>
        <p:nvGrpSpPr>
          <p:cNvPr id="682" name="组合 3"/>
          <p:cNvGrpSpPr/>
          <p:nvPr/>
        </p:nvGrpSpPr>
        <p:grpSpPr>
          <a:xfrm>
            <a:off x="1474920" y="4076640"/>
            <a:ext cx="6984720" cy="1008360"/>
            <a:chOff x="1474920" y="4076640"/>
            <a:chExt cx="6984720" cy="1008360"/>
          </a:xfrm>
        </p:grpSpPr>
        <p:sp>
          <p:nvSpPr>
            <p:cNvPr id="683" name="TextBox 7"/>
            <p:cNvSpPr/>
            <p:nvPr/>
          </p:nvSpPr>
          <p:spPr>
            <a:xfrm>
              <a:off x="1474920" y="4076640"/>
              <a:ext cx="698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2×20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2×3.14×20÷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729.84(c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它的表面积为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729.8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平方厘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4" name="对象 8" descr=""/>
            <p:cNvPicPr/>
            <p:nvPr/>
          </p:nvPicPr>
          <p:blipFill>
            <a:blip r:embed="rId2"/>
            <a:stretch/>
          </p:blipFill>
          <p:spPr>
            <a:xfrm>
              <a:off x="2561400" y="4084920"/>
              <a:ext cx="577800" cy="5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8"/>
          <p:cNvSpPr/>
          <p:nvPr/>
        </p:nvSpPr>
        <p:spPr>
          <a:xfrm>
            <a:off x="900000" y="988920"/>
            <a:ext cx="7407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容器，从正面看和从上面看如下图，求这个立体图形的表面积是多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2735280" cy="203184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1"/>
          <p:cNvGrpSpPr/>
          <p:nvPr/>
        </p:nvGrpSpPr>
        <p:grpSpPr>
          <a:xfrm>
            <a:off x="1692360" y="3860640"/>
            <a:ext cx="8066160" cy="1008360"/>
            <a:chOff x="1692360" y="3860640"/>
            <a:chExt cx="8066160" cy="1008360"/>
          </a:xfrm>
        </p:grpSpPr>
        <p:sp>
          <p:nvSpPr>
            <p:cNvPr id="688" name="TextBox 13"/>
            <p:cNvSpPr/>
            <p:nvPr/>
          </p:nvSpPr>
          <p:spPr>
            <a:xfrm>
              <a:off x="1692360" y="3860640"/>
              <a:ext cx="8066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×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×3.14×6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5×1×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20.48(c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个立体图形的表面积是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20.48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平方厘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9" name="对象 6" descr=""/>
            <p:cNvPicPr/>
            <p:nvPr/>
          </p:nvPicPr>
          <p:blipFill>
            <a:blip r:embed="rId2"/>
            <a:stretch/>
          </p:blipFill>
          <p:spPr>
            <a:xfrm>
              <a:off x="1718640" y="3861720"/>
              <a:ext cx="490680" cy="54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1042920" y="1052640"/>
            <a:ext cx="700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机器零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中间有一个圆柱形圆孔，这个零件的表面积是多少平方分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6012000" y="2009880"/>
            <a:ext cx="1701720" cy="19494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"/>
          <p:cNvGrpSpPr/>
          <p:nvPr/>
        </p:nvGrpSpPr>
        <p:grpSpPr>
          <a:xfrm>
            <a:off x="1547640" y="4005360"/>
            <a:ext cx="6985080" cy="1313640"/>
            <a:chOff x="1547640" y="4005360"/>
            <a:chExt cx="6985080" cy="1313640"/>
          </a:xfrm>
        </p:grpSpPr>
        <p:sp>
          <p:nvSpPr>
            <p:cNvPr id="693" name="TextBox 7"/>
            <p:cNvSpPr/>
            <p:nvPr/>
          </p:nvSpPr>
          <p:spPr>
            <a:xfrm>
              <a:off x="1547640" y="4005360"/>
              <a:ext cx="698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84280" indent="-58428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×6×6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－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×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×3.14×6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58.39(d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584280" indent="-58428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个零件的表面积是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58.39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平方分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4" name="对象 6" descr=""/>
            <p:cNvPicPr/>
            <p:nvPr/>
          </p:nvPicPr>
          <p:blipFill>
            <a:blip r:embed="rId2"/>
            <a:stretch/>
          </p:blipFill>
          <p:spPr>
            <a:xfrm>
              <a:off x="2843640" y="4113360"/>
              <a:ext cx="490680" cy="5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900000" y="98892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将高都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底面直径分别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三个圆柱按下图的方式摆放，这个组合图形的表面积是多少平方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6443640" y="2133720"/>
            <a:ext cx="1513080" cy="1939680"/>
          </a:xfrm>
          <a:prstGeom prst="rect">
            <a:avLst/>
          </a:prstGeom>
          <a:ln w="0">
            <a:noFill/>
          </a:ln>
        </p:spPr>
      </p:pic>
      <p:grpSp>
        <p:nvGrpSpPr>
          <p:cNvPr id="697" name="组合 1"/>
          <p:cNvGrpSpPr/>
          <p:nvPr/>
        </p:nvGrpSpPr>
        <p:grpSpPr>
          <a:xfrm>
            <a:off x="1258920" y="3933720"/>
            <a:ext cx="9074160" cy="1008360"/>
            <a:chOff x="1258920" y="3933720"/>
            <a:chExt cx="9074160" cy="1008360"/>
          </a:xfrm>
        </p:grpSpPr>
        <p:sp>
          <p:nvSpPr>
            <p:cNvPr id="698" name="TextBox 13"/>
            <p:cNvSpPr/>
            <p:nvPr/>
          </p:nvSpPr>
          <p:spPr>
            <a:xfrm>
              <a:off x="1258920" y="3933720"/>
              <a:ext cx="9074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×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2×3.1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.5×3.1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×3.14)×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0.41(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个组合图形的表面积是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0.4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平方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9" name="对象 6" descr=""/>
            <p:cNvPicPr/>
            <p:nvPr/>
          </p:nvPicPr>
          <p:blipFill>
            <a:blip r:embed="rId2"/>
            <a:stretch/>
          </p:blipFill>
          <p:spPr>
            <a:xfrm>
              <a:off x="1331640" y="3933720"/>
              <a:ext cx="490680" cy="5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684360" y="1460520"/>
            <a:ext cx="824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2360" indent="-522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段圆柱形木料，如果截成两个小圆柱，它的表面积增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28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如果沿着直径劈成两半，它的表面积增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求这段圆柱形木料的表面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"/>
          <p:cNvGrpSpPr/>
          <p:nvPr/>
        </p:nvGrpSpPr>
        <p:grpSpPr>
          <a:xfrm>
            <a:off x="595440" y="909720"/>
            <a:ext cx="2809800" cy="668160"/>
            <a:chOff x="595440" y="909720"/>
            <a:chExt cx="2809800" cy="668160"/>
          </a:xfrm>
        </p:grpSpPr>
        <p:sp>
          <p:nvSpPr>
            <p:cNvPr id="702" name="圆角矩形 11"/>
            <p:cNvSpPr/>
            <p:nvPr/>
          </p:nvSpPr>
          <p:spPr>
            <a:xfrm>
              <a:off x="1479600" y="102240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文本框 13"/>
            <p:cNvSpPr/>
            <p:nvPr/>
          </p:nvSpPr>
          <p:spPr>
            <a:xfrm>
              <a:off x="1479600" y="10094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0972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矩形 15"/>
          <p:cNvSpPr/>
          <p:nvPr/>
        </p:nvSpPr>
        <p:spPr>
          <a:xfrm>
            <a:off x="1403280" y="350028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积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28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(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半径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 c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高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÷2÷1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(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表面积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2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×1×2×3.1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1.88(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段圆柱形木料的表面积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1.8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14" descr=""/>
          <p:cNvPicPr/>
          <p:nvPr/>
        </p:nvPicPr>
        <p:blipFill>
          <a:blip r:embed="rId2"/>
          <a:stretch/>
        </p:blipFill>
        <p:spPr>
          <a:xfrm>
            <a:off x="6443640" y="2851200"/>
            <a:ext cx="2095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6T14:46:12Z</dcterms:modified>
  <cp:revision>1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